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B92A-0494-49C7-9D59-B03A4354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637-672B-4FCF-AE0A-C1C52C48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D82-DE78-4F1F-9C2A-47EE9D9C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8C52-12A5-44CB-8190-DF22114E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0251-F51A-4C5A-A2C4-1B2451ED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DB02-7872-48B8-A155-59945D74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1C45-805C-4711-A40C-E31B654C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6470-31FB-4C68-A1DB-6A03DB65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1A17-F710-4970-8AB0-12D160F5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1A6E-20B6-4BB7-8A6E-0E7F5143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C975-C739-4552-A2BA-194C0CEC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3A78-EDDE-4485-B567-444D2A5F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998B-126E-4CBE-BA75-1FF4A856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E1A9-09E1-43E1-932E-11A0C3E9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B8F5-BA8D-4A18-89DC-BCCDA70F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79C1-6D3B-47E6-9F02-A675EB15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B9BE-74B6-49DD-B1E5-2D46ACAA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F0B3-B17D-4358-9369-D0A064AF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146-C80E-4320-A2AA-9D49DF38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7BA-3B8F-4441-8332-500F9F8C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DDDA-7574-4723-982D-69FD70CE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822A-988D-4AE9-9FC8-ECC64E34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BE38-F738-4A4A-A450-B6D83ADC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8FC-71F8-4892-8E1A-80D6C218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6D06-0C8E-4A74-89A7-2908EBDB8F6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731F-9EE1-4409-8B72-32611E7324B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SER w/origin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¿De dónde eres tú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r = to b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r is used to ask and state where someone is from (their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origin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r also has 5 forms that are changed with each person to discuss where each person is fro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95280" y="2514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Tú ____ de Columbia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251460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95280" y="25146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El ____ de México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251460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514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Ellas ____  de Argentina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25909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25146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Mi amigo ____ de Espa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ña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243828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Nosotros ______ de Costa Rica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2590920"/>
            <a:ext cx="1905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o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25146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Mi abuela ______ de Honduras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2514600"/>
            <a:ext cx="95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Ustedes ____ de Nueva York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5909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" y="2514600"/>
            <a:ext cx="921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Los estudiantes____ dePanam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25909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251460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Tú no  ____ de Venezuela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92560" y="251460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2514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Mis amigos no ____ de Nueva York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371600"/>
            <a:ext cx="74674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yo             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nosotro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ú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é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l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lla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Ud.          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380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The verb 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s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152388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243828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502920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1523880"/>
            <a:ext cx="1828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o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51055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52280"/>
            <a:ext cx="8839080" cy="670572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2514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Carlos y yo ______ de Republica Dominicana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2590920"/>
            <a:ext cx="1905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o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95280" y="25146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Lupe ____ de Ecuador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95280" y="25146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Francisco ____ de Chile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2514600"/>
            <a:ext cx="92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Miguel y Enrique____ de Tejas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Create sentences in Spanish stating where each person is from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Amanda / ser / Panamá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Los chicos / ser / Puerto R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Yo / ser / Los EEU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Ana y yo / ser / Urugu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Sr. y Sra Veracruz / ser / Cub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Tu / ser / El Salvad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I.  Translate into Spanish the correct forms of SER with the pronou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The boys are fr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I am fr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You formal are fr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You all are fr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Anita is fr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My dad is fr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You informal are fr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Miguel and I are fr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Cristina and Teresa are fr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10.  Enrique and Marta are fr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Form a question and an answer to ask and state where each person is from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(tu) / (Peru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(Gregorio) / (Espan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(Ud.) / Guatemal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(las chicas) / (Venezuel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(Uds.) / (Los Estados Unido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(Isabela y David) / (Republica Dominican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8390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Yo </a:t>
            </a:r>
            <a:r>
              <a:rPr b="1" i="1" lang="en-US" sz="3200" spc="-1" strike="noStrike">
                <a:solidFill>
                  <a:srgbClr val="eaeaea"/>
                </a:solidFill>
                <a:latin typeface="Bookman Old Style"/>
              </a:rPr>
              <a:t>soy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 = I am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nosotros </a:t>
            </a:r>
            <a:r>
              <a:rPr b="1" i="1" lang="en-US" sz="3200" spc="-1" strike="noStrike">
                <a:solidFill>
                  <a:srgbClr val="eaeaea"/>
                </a:solidFill>
                <a:latin typeface="Bookman Old Style"/>
              </a:rPr>
              <a:t>somos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 = we 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T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  <a:ea typeface="Times New Roman"/>
              </a:rPr>
              <a:t>ú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Bookman Old Style"/>
              </a:rPr>
              <a:t>eres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 = you are (informal)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  <a:ea typeface="Times New Roman"/>
              </a:rPr>
              <a:t>é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l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   = he is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ellos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 = they are (m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ella    </a:t>
            </a:r>
            <a:r>
              <a:rPr b="1" i="1" lang="en-US" sz="3200" spc="-1" strike="noStrike">
                <a:solidFill>
                  <a:srgbClr val="eaeaea"/>
                </a:solidFill>
                <a:latin typeface="Bookman Old Style"/>
              </a:rPr>
              <a:t>es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 = she is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ellas  </a:t>
            </a:r>
            <a:r>
              <a:rPr b="1" i="1" lang="en-US" sz="3200" spc="-1" strike="noStrike">
                <a:solidFill>
                  <a:srgbClr val="eaeaea"/>
                </a:solidFill>
                <a:latin typeface="Bookman Old Style"/>
              </a:rPr>
              <a:t>son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 = they are 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(f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Ud.   you </a:t>
            </a:r>
            <a:r>
              <a:rPr b="0" lang="en-US" sz="1800" spc="-1" strike="noStrike">
                <a:solidFill>
                  <a:srgbClr val="eaeaea"/>
                </a:solidFill>
                <a:latin typeface="Bookman Old Style"/>
              </a:rPr>
              <a:t>(formal)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 are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Uds.    you all 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76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I.  Translate into English the correct forms of SER with the pronou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-7639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El 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-7639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Nosotros som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-7639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Yo so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-7639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Ud. 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-7639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Uds. s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-7639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Ellas s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-7639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Ella 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-7639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Mi familia y yo som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-7639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Juan y Miguel s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-7639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Tu er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-7639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Ana 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tes on expressing origi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order to ask where someone is from we use the question word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¿De dónde?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  = From whe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ex: ¿De dónde eres tú?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To state where you or someone is from we use this format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ex: 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form of ser + de + (country of) origi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Yo soy de Nueva York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Asking/stating where people are from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¿De dónde eres tú?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Yo soy de Nueva York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¿De dónde es Juan?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Juan es de los Estados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Unidos.  (los EEUU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¿De dónde es Ud?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Yo soy de Mahopa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¿De dónde son Ana y Marta?  Ellas son de Cub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¿De dónde son Uds?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Nosotros somos de Peru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25146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Mi papá ____ de Puerto Rico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25909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2514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Yo ____ de los Estados Unidos (United States)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251460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95280" y="251460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Ella ____ de Guatemala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6:58:58Z</dcterms:created>
  <dc:creator>Paul Widergren</dc:creator>
  <dc:description/>
  <dc:language>en-US</dc:language>
  <cp:lastModifiedBy>Daly Dominguez</cp:lastModifiedBy>
  <dcterms:modified xsi:type="dcterms:W3CDTF">2010-09-13T06:28:25Z</dcterms:modified>
  <cp:revision>13</cp:revision>
  <dc:subject/>
  <dc:title>No Slide Title</dc:title>
</cp:coreProperties>
</file>